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2E2-9720-44DC-AAC7-05D30811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1D9-2843-43C8-91DC-7F1A34E5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E2A-93FC-4CE0-B1B5-A6DE345D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98A-6876-448E-A95D-9F497FFC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CA1-A3BD-4520-ACE4-B68FA1B2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06A-C1F3-4A13-B79D-10D9FBA1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84B-BD79-4221-8D6F-EFC22176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D46-EDF8-495C-A6AB-12A9A7C9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9C7-A9BE-4BE5-A02D-921A963C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FF9-BD09-49AD-B251-BDB4AC15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994-44B6-4B86-8D5F-A959545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E9E-4D7E-4448-ACCC-71E3665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ABDD-D996-4B71-9321-6F0536565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Слайд №38</a:t>
            </a:r>
            <a:br>
              <a:rPr sz="1200"/>
            </a:b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Пример  учета периода военной службы при </a:t>
            </a:r>
            <a:r>
              <a:rPr b="1" i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исчисления страхового стажа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(ст.16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ФЗ №255-ФЗ) </a:t>
            </a:r>
            <a:br>
              <a:rPr sz="3600"/>
            </a:b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21932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ериоды прохожд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оенной службы до 31.12.2006 года учитываются  в порядке, установленном ст. 17 Закона №255-ФЗ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 1 января 2007 года в случае если период военной службы  согласно Закону   от 24.07.2009 №213-ФЗ   влияет на размер пособия, осуществляется дополнительное финансирование за счет средств   федерального бюдж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Наприме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страхованный заболел 1 февраля 2010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6 лет  военной службы до 31.12.200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 года военной службы    за период с 1.01.2007 по 31.12.200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а по трудовому  договору  7 месяцев ( с 01.07.2009 по 1 февраля 2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г.)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й страховой стаж  с учетом всей военной службы  до 31.12.2006 составляет 6,7 лет  -размер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собия  80 % среднего заработ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ем в страховой стаж 2 года  военной службы после 2006 года. Итого:  стаж  8,7 лет –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мер пособия    100% среднего зарабо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ница между ними  20%. Пособие в размере 20 % необходимо отнести на расходы федерального бюджета (показать  в форме -4 ФСС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03T07:30:33Z</dcterms:modified>
  <cp:revision>2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